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64379"/>
        <c:axId val="7395524"/>
      </c:barChart>
      <c:catAx>
        <c:axId val="22864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5524"/>
        <c:crosses val="autoZero"/>
        <c:auto val="1"/>
        <c:lblAlgn val="ctr"/>
        <c:lblOffset val="100"/>
        <c:noMultiLvlLbl val="0"/>
      </c:catAx>
      <c:valAx>
        <c:axId val="73955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64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CD14-427E-4E0D-BC89-5B14BABD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398-D983-413A-8E3E-F2592207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6802-3327-4BC0-A439-737167BE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773-7D76-498A-8840-57DE3504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5A8-3764-42D5-833F-BCCC1286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88B3-CF60-45BC-B64B-9CBC8E0A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690C-5EF7-4DA3-8B64-5ECDD2C5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ACB-AD9C-4209-8663-7B98D39A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BE2-74A6-4C57-9A08-E4438D0A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051-202A-4FCF-AC6F-12AC684E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404D-C85A-45C8-9479-C5AC26CA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F82F-F984-4771-9FAF-75B502FE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22E8C-4A7E-4E8C-8A94-D650BFD5EB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