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87188"/>
        <c:axId val="41632146"/>
      </c:barChart>
      <c:catAx>
        <c:axId val="25287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32146"/>
        <c:crosses val="autoZero"/>
        <c:auto val="1"/>
        <c:lblAlgn val="ctr"/>
        <c:lblOffset val="100"/>
        <c:noMultiLvlLbl val="0"/>
      </c:catAx>
      <c:valAx>
        <c:axId val="41632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87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29B-A3D7-4198-B188-1CFD1433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0B1-5B4B-4EC9-B1C3-347120C3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515-84FD-4BFB-8B0B-E60D831E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899-418E-4F70-8D15-4D6D6DF6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410-2248-44FB-9096-0E28A350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100-0B07-468E-B236-06F7A0CE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07B-6144-4AD4-B9B5-B0DDAE30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B6F-435F-442E-869C-DCA48734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EF8-1399-4E29-8823-53BDC0A1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642-118E-47F9-BD29-DF524D97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4CD-73F5-45A7-AA10-D0B4C71B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FD5-DB07-4BDF-9BAE-1ECF3A16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2BDE3-689D-4DF0-95B6-4BCA8FFB51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