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29355"/>
        <c:axId val="56983513"/>
      </c:barChart>
      <c:catAx>
        <c:axId val="97129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83513"/>
        <c:crosses val="autoZero"/>
        <c:auto val="1"/>
        <c:lblAlgn val="ctr"/>
        <c:lblOffset val="100"/>
        <c:noMultiLvlLbl val="0"/>
      </c:catAx>
      <c:valAx>
        <c:axId val="56983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29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DC8-F0E3-43FE-85EB-54096A18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E30-A90B-4759-ABB7-2A41B65B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F13-2331-4C04-BFC9-D485A79A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2EF-C5B1-40E0-AC2E-1CE4A5AC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365-E55C-4837-8114-051EA6BF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D38-CB26-4555-AA4F-08BE28CC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F62-B7CD-44E1-BFAF-EE2A5FFE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1BA-B1BC-4F19-B64F-D36196CF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F39-DCCD-4A87-A06F-DF872EAC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6B4-77C7-41FF-A683-6CB278A9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CA8-2DDE-4C30-8F86-D593074D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FB1-6B9B-49F4-8999-17416C65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A33F6-440B-4DBC-84F9-E581DDEF89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