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16862"/>
        <c:axId val="82519610"/>
      </c:barChart>
      <c:catAx>
        <c:axId val="29716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19610"/>
        <c:crosses val="autoZero"/>
        <c:auto val="1"/>
        <c:lblAlgn val="ctr"/>
        <c:lblOffset val="100"/>
        <c:noMultiLvlLbl val="0"/>
      </c:catAx>
      <c:valAx>
        <c:axId val="82519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16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9B9-A8C6-4B06-8423-8BE43BCC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A15-F7DD-4293-9BCB-B57320C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79E-4F80-452E-8893-2AD31941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E8A-57DD-46D0-911F-881CD7A1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69B-DEC5-4DD3-B947-A1B7E532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2E3-86B3-4C6F-ADFE-54796F7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B98-7F59-405B-A757-4BD95E33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2AD-A9F4-4359-8F00-0F586EEC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7FB-C73F-42A3-9B15-FA1A53F7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D26-9AAA-45BB-9634-AA9671A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318-CFBA-4650-B244-C274385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DDC-8BDE-47CD-9F78-145A4BD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740D-4CA9-4A54-AA5D-DAEC1266A3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