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61908"/>
        <c:axId val="81545609"/>
      </c:barChart>
      <c:catAx>
        <c:axId val="84661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45609"/>
        <c:crosses val="autoZero"/>
        <c:auto val="1"/>
        <c:lblAlgn val="ctr"/>
        <c:lblOffset val="100"/>
        <c:noMultiLvlLbl val="0"/>
      </c:catAx>
      <c:valAx>
        <c:axId val="81545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61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E71-53F3-467F-BB2A-B7799C92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4B9-986C-408C-B478-CDAA7C86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927-3923-48C9-BB4D-7C3127E6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BB0-B8D9-416A-BAEE-35437C84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CDC-4CB5-49B6-BE23-E475008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AB5-130D-4E53-A2F9-CF80F447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507-1012-4F98-8CDB-4044C226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B78-9B67-431C-A90F-434BE5B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898-F1BF-4FB1-9259-1F685F01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5E5-E3D1-48A4-8CC0-5BB79FC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7D2-4522-47F3-828B-DD30032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2EF-D58F-4CC8-B6C1-F8C79C9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F2F22-D896-4AC1-A416-FF29559D12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