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95780"/>
        <c:axId val="7054643"/>
      </c:barChart>
      <c:catAx>
        <c:axId val="56295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4643"/>
        <c:crosses val="autoZero"/>
        <c:auto val="1"/>
        <c:lblAlgn val="ctr"/>
        <c:lblOffset val="100"/>
        <c:noMultiLvlLbl val="0"/>
      </c:catAx>
      <c:valAx>
        <c:axId val="7054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95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B9E-C54C-4F28-A238-B70D559C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84D-6B07-4939-BBF5-8445574E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0D5-82A0-41EB-82EE-6EFA0437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DD3-43B8-4910-800C-5B59AE62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D44-9651-4FD8-A7A2-118C9D1B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2419-4037-4991-8C00-F645CE11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F9C-EDD4-44AD-BE82-64F17A7D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207-1220-446D-A46A-0407C6E0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28B-5AF8-4A4F-8CFA-7B7111C4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122-2B51-4969-9EBE-E0B621C8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CAB-7F66-48B2-9E2B-39C03F7D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457-33D9-4E3F-BDAB-B6D69965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5F3FC-6A3A-4412-A52E-21F202BE30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