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91686"/>
        <c:axId val="15830015"/>
      </c:barChart>
      <c:catAx>
        <c:axId val="83891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30015"/>
        <c:crosses val="autoZero"/>
        <c:auto val="1"/>
        <c:lblAlgn val="ctr"/>
        <c:lblOffset val="100"/>
        <c:noMultiLvlLbl val="0"/>
      </c:catAx>
      <c:valAx>
        <c:axId val="15830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91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CBF-FB86-44CE-9065-5EB2491A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9D28-C19D-4823-B343-8F8DBD8C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A4E-6590-44E0-B412-60C64D1B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300D-BDD8-4684-9700-56DA0A87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364-85B6-4DE3-998D-57AA02C5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864-7869-48E8-BC26-60B17901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052-EF44-4734-8A19-F5C26720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B43-F534-495A-B152-8A38C2C7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566-9C26-424E-AC30-23297C58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F4A2-B15B-4407-B82B-60273AF2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4B0-3D42-4C31-A9CC-1FC4BC4E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D08-AAF8-4A85-8396-E60943D5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3FF04-23AD-415B-BFCE-3616E926DC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