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66416"/>
        <c:axId val="56157051"/>
      </c:barChart>
      <c:catAx>
        <c:axId val="87166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7051"/>
        <c:crosses val="autoZero"/>
        <c:auto val="1"/>
        <c:lblAlgn val="ctr"/>
        <c:lblOffset val="100"/>
        <c:noMultiLvlLbl val="0"/>
      </c:catAx>
      <c:valAx>
        <c:axId val="56157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6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133-3070-4948-8044-F45F87FA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14F-EF09-4AB0-A56B-EE9FDAC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7E1-978C-4F13-A9B8-60EBB85E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060-7C94-4D15-90F1-B90644C6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6D1-B283-4D28-A7A2-E8CD31B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660-94A9-4441-87A0-D40CEC2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894-B443-48EB-ADD0-1A94151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F2-5224-44BE-A5F2-04C5ED8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ED9-B5B0-4A09-BA44-1EDE7B96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D2D-0ACA-4288-8A00-974B799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B2E-A817-4160-B2F3-6D12750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7F6-7400-48CE-93AF-89EA237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2AF85-87CA-49E2-AFFD-B97A4278BB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