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86874"/>
        <c:axId val="17923390"/>
      </c:barChart>
      <c:catAx>
        <c:axId val="47786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23390"/>
        <c:crosses val="autoZero"/>
        <c:auto val="1"/>
        <c:lblAlgn val="ctr"/>
        <c:lblOffset val="100"/>
        <c:noMultiLvlLbl val="0"/>
      </c:catAx>
      <c:valAx>
        <c:axId val="179233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86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520-420D-407A-9F40-3F8EB7F5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AF1-B562-44B7-AE4C-3799F8A8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DF9-E3AA-4875-8653-EE2404C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526-4939-48D6-909D-A1F5284B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FC4-1323-482D-9E51-E0AC17A2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09C-58B3-40F3-A55A-652DD9B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5E8-B1D4-4BBF-A137-B6158307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BB6-541E-456E-94C0-9E3F2B8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202-3C19-4339-A567-9DF1651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92C-7E85-4EA4-A2A7-DB6A738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662-0D80-442F-A7B6-1F258B3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183-AA45-4C6E-9AEC-BF6D667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84D5-EA68-4DED-8154-7C0A503415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