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58940"/>
        <c:axId val="98556643"/>
      </c:barChart>
      <c:catAx>
        <c:axId val="39358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6643"/>
        <c:crosses val="autoZero"/>
        <c:auto val="1"/>
        <c:lblAlgn val="ctr"/>
        <c:lblOffset val="100"/>
        <c:noMultiLvlLbl val="0"/>
      </c:catAx>
      <c:valAx>
        <c:axId val="98556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58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86E-ED5C-4BCF-A364-674B828B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7D1-168D-4D9D-87FF-7AE79CB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792-92D3-468F-B7DD-A5C790FA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8C9-EAA0-4123-BC67-F414AC7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C86-2A1E-4DBC-81A0-8F8E254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B52-7750-445E-98B3-2A9DBE9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AF2-4240-405D-BC39-BAC6D9A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1FE-0289-4E3F-B0DA-20D9511B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2F6-7DCF-4884-8ABA-24BEAF3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741-CE4F-46BC-BA0E-A1F6837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BA9-D42A-4D09-8728-EC5312A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61B-3E78-4180-AD3E-480C952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3F1F-B5BE-4198-A55B-0B8B208F75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