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73093"/>
        <c:axId val="32462290"/>
      </c:barChart>
      <c:catAx>
        <c:axId val="14073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62290"/>
        <c:crosses val="autoZero"/>
        <c:auto val="1"/>
        <c:lblAlgn val="ctr"/>
        <c:lblOffset val="100"/>
        <c:noMultiLvlLbl val="0"/>
      </c:catAx>
      <c:valAx>
        <c:axId val="32462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73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2EC-05DF-424C-8AEF-C5276853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4E8-F596-4436-9FCB-4DBF321B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7F1-C4F4-438B-A033-4DF7B7AB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DDB-6B9D-4F71-986B-5D6C4873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983-F987-4A92-B2F5-5AF489F5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CC3-8F24-498D-9F80-AFEDA258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98B-13D6-4E3C-ABF5-F033E475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D1B-29A4-431C-93C1-D72C61C6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7A3-6762-46BF-8900-DF904D7E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9F8-D30D-43DA-9949-D40B4E35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EC5-3901-489F-AAE6-82C75A1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627-DA75-4663-86FB-5060E2B2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FF0E3-9604-433A-94C9-1369B8A9CB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