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184573"/>
        <c:axId val="11426654"/>
      </c:barChart>
      <c:catAx>
        <c:axId val="741845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26654"/>
        <c:crosses val="autoZero"/>
        <c:auto val="1"/>
        <c:lblAlgn val="ctr"/>
        <c:lblOffset val="100"/>
        <c:noMultiLvlLbl val="0"/>
      </c:catAx>
      <c:valAx>
        <c:axId val="114266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845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ABE0-390E-43E8-B2A6-112435FA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14A2-CE05-4C5A-BC6E-F9FFED4B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CC66-03F7-4F8F-AD7F-D456C5F9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41B1-605A-4384-B35D-F69E62D1D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8620-3351-4D75-9E79-D647987A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2FE1-8844-49E2-A7ED-2BABCC20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81D8-00D0-414B-A4DA-AAE6B247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6BC1-F716-4E6F-B467-8DA0C156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54FA-6464-4C1F-8B74-4D7A4345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7ECC-AC35-45A8-8C2D-671272AA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0AF5-0102-4B89-9A21-E224C534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6342-0A33-4B0D-AA6E-7041BA8C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6D55C-F8D5-43D7-B822-EBC919F594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