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06091"/>
        <c:axId val="17055774"/>
      </c:barChart>
      <c:catAx>
        <c:axId val="51006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5774"/>
        <c:crosses val="autoZero"/>
        <c:auto val="1"/>
        <c:lblAlgn val="ctr"/>
        <c:lblOffset val="100"/>
        <c:noMultiLvlLbl val="0"/>
      </c:catAx>
      <c:valAx>
        <c:axId val="17055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06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B77-E676-4080-8F58-4D07991B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9C6-CEE5-48FF-93EC-309BBC8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3A4-6580-49D1-B2BC-F4F54004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77E-22A8-4AC6-9644-8D0F4BDC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729-7AE6-4781-B66C-60D0FFC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1DF-70DF-44A2-A190-67FC8A0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13D-813D-4139-A367-B9F1C6B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8AE-CBCD-424F-995C-61ACB4A5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00A-FB48-4C48-B586-77A48993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815-ABDC-478A-B7CB-F3E0A264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3BF-C611-440D-9EF5-FE4B84E3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FB2-51E0-478C-B2C2-E0EB772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F5250-302D-4E6C-AC59-6CA06A986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