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826160"/>
        <c:axId val="94996148"/>
      </c:barChart>
      <c:catAx>
        <c:axId val="498261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996148"/>
        <c:crosses val="autoZero"/>
        <c:auto val="1"/>
        <c:lblAlgn val="ctr"/>
        <c:lblOffset val="100"/>
        <c:noMultiLvlLbl val="0"/>
      </c:catAx>
      <c:valAx>
        <c:axId val="949961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8261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12E2-3BB4-4527-8098-DEBA98B37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5324-DDD0-4018-AC3A-F253F1F61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B8A1-7B4D-4C91-A205-F2E5253A5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AB86-74C8-4B77-B8B6-6D271E48D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6CB7-FC49-4D98-B41F-8ADEF0BC8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7D3F-8B90-4943-B495-85C427597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4B7B-FC87-42D5-B922-44767DC88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106B-57D5-424B-A01F-BF69DE3F0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6485-CB57-450E-86B2-FC96954B2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A525-6111-4DE3-AAD1-6015F1CF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2757-8439-4F22-B2DB-605F0636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27E7-D510-4062-B676-D51E25C2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677A00-3908-4A4C-AA91-DC6BCB104C8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