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35338"/>
        <c:axId val="8136610"/>
      </c:barChart>
      <c:catAx>
        <c:axId val="17435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6610"/>
        <c:crosses val="autoZero"/>
        <c:auto val="1"/>
        <c:lblAlgn val="ctr"/>
        <c:lblOffset val="100"/>
        <c:noMultiLvlLbl val="0"/>
      </c:catAx>
      <c:valAx>
        <c:axId val="81366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35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D42-0651-4810-B7D9-B073727F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7B7-47FE-43A6-9EFD-FDED0D1D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2DF-C8FA-4CDD-BA10-A63CCFBE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D69-E107-41F7-9355-D909D5E2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E75-835D-49CB-9D1E-13A6BAE5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7244-8B2D-4B89-9257-ADC27865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0FB-DBBF-49E4-B22B-8E283451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B41F-80C7-4951-8B1B-A99D2240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4E8-552E-459C-87E2-D67FC4B5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579-16C6-48FD-A6F7-3A2E0587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40BC-172F-46EC-A4E2-32DEA982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F10A-69BC-4639-BAB2-4B651710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A516D-5813-4339-826E-86F38E4C74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