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91550"/>
        <c:axId val="4830161"/>
      </c:barChart>
      <c:catAx>
        <c:axId val="82791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0161"/>
        <c:crosses val="autoZero"/>
        <c:auto val="1"/>
        <c:lblAlgn val="ctr"/>
        <c:lblOffset val="100"/>
        <c:noMultiLvlLbl val="0"/>
      </c:catAx>
      <c:valAx>
        <c:axId val="4830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91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728C-CEA6-4A6E-93E8-B1914B43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03A-DB01-4845-B61E-9A1D9111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04A-4F6E-4B7D-BC71-22E263F0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350-BBAA-4EEF-B6A1-DB6D1B31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BDB-A931-4245-9E47-55EEE8D9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442-851D-45C2-97FA-4E5125FF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CA4-4C9F-4A81-A8EA-12283871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927-66F5-4D42-BB97-82297EE4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567-087C-41D0-A574-F18B62C5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293-6D22-4213-94EB-CD076E0A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153-0458-429C-A822-6FFA3C28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F2B-0DE4-4AFB-8509-DBDCC460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9EBB7-D802-4058-A44C-3B0A9DDB20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