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341157"/>
        <c:axId val="96470749"/>
      </c:barChart>
      <c:catAx>
        <c:axId val="313411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70749"/>
        <c:crosses val="autoZero"/>
        <c:auto val="1"/>
        <c:lblAlgn val="ctr"/>
        <c:lblOffset val="100"/>
        <c:noMultiLvlLbl val="0"/>
      </c:catAx>
      <c:valAx>
        <c:axId val="96470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411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B714-EB6E-4A69-A7A2-23D6FABB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3E9-339E-421D-B96B-8E0AF65B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779-C645-44A3-823E-96E15317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ABF9-8B8E-49E0-A70B-F4D19F77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B8AC-3A10-432F-8508-ED0227F2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EF51-9C6E-407F-A2BE-3F67B10B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2E98-0ADA-4810-B566-F4EF2F26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DAC-25B3-4ED0-B778-3B3F1ED5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B05F-A42A-46FB-A2A7-2F72CC2F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CE70-5CAA-4C99-8B77-36C1D795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C8A-DF54-46F7-975D-C95FCCD1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47B-E547-4AD0-9085-11F1BCB7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EC0B9-78A6-4483-AA78-EDE32C6C77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