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5279"/>
        <c:axId val="55041767"/>
      </c:barChart>
      <c:catAx>
        <c:axId val="3885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41767"/>
        <c:crosses val="autoZero"/>
        <c:auto val="1"/>
        <c:lblAlgn val="ctr"/>
        <c:lblOffset val="100"/>
        <c:noMultiLvlLbl val="0"/>
      </c:catAx>
      <c:valAx>
        <c:axId val="55041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5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B16-02E9-4352-8D71-17C309D3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CA7-B7CB-4349-AB57-9CD888B5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CFE-097A-4F21-A64D-C210E6C9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D88-E851-4FA0-8128-0ED9FF50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EAF-5F5B-40E0-A2D9-CB659CE3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335-7616-4E73-AF1F-2DB380F5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66D-F574-4D56-9592-CEEBA919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C7D-B8DD-4943-831A-14A7A7E0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5AD-CA4C-4BB8-A5DF-697D484C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7D7-E8C4-4AF5-BDDD-8166D1E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E6F-45FA-4765-9EAF-7969ECAB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CB7-1D38-40AE-8571-358B3EBB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EFE4F-550E-4094-AADF-6938D28920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